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064D-9EC7-4EE6-9DBA-450A30538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A166-4568-4CD0-A4AC-49EECA0F9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BB5E-BCAC-4873-8F02-5EE706D5A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B119-8336-4F29-A89E-54D5783EE1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A5A3-715B-4BB8-AC7E-DEBE913E29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CA07-0971-41E5-B91C-35778EC2E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E8C7-8CAD-4D7B-9FF6-67C8C83A1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DDF1-C43F-4CBC-863D-52EA07474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076C-AE4D-4CB3-A35E-8D1586787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8B72-A0D2-4AF3-BF55-4BF45138D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18C7-97EB-43B7-AD66-464A72079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9E3B-EF15-4AAB-9B04-D13F7A3C7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2916-CDA8-46A8-AE2D-6EBDC78FEA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438280" y="1293840"/>
            <a:ext cx="4038840" cy="524988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304920" y="227160"/>
            <a:ext cx="85471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 Rounded MT Bold"/>
                <a:ea typeface="Arial Rounded MT Bold"/>
              </a:rPr>
              <a:t>Wir können mal nach Deutschland fah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086600" y="4800600"/>
            <a:ext cx="17654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xel Schu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tz Thom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stav R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9360" y="78739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Landgasthof Ratz ist wo wir blieben für drei Nacht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240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ist nicht teuer (€60 euro/nacht. €180 Tot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hat frei morgen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hat gut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467160" y="1854360"/>
            <a:ext cx="55879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7911-071A-4E48-BE4F-7718BAC2A8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69440"/>
            <a:ext cx="8229600" cy="6388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el, Fritz, und Gustav habt €3000 je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t es €4235.58 für Flugzeug no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0 für die Chauffer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 fur Activitä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 €1860 für die Hot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gibt uns €2529.42 in das e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16B9-6FCF-4A78-BCFC-53A6171948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79800" y="4011480"/>
            <a:ext cx="4081320" cy="27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B40D-D28D-499E-8EE5-D0F067032DED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38479" r="0" b="15831"/>
          <a:stretch/>
        </p:blipFill>
        <p:spPr>
          <a:xfrm>
            <a:off x="304920" y="1905120"/>
            <a:ext cx="853416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116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fahren nach Baden-Baden von Chicago. Es kostet €1411.86 für jeder uns. Eine Total von €4235.5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122" t="12636" r="0" b="25571"/>
          <a:stretch/>
        </p:blipFill>
        <p:spPr>
          <a:xfrm>
            <a:off x="1143000" y="2362320"/>
            <a:ext cx="6705720" cy="335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 gehen nach Baden-Baden, dann Rheinau, und danach zu Rheinmünster mit einer Privat Chauffer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6800" y="6095880"/>
            <a:ext cx="8140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 kostet €35, dann €100, danach €120, and dann €75 für eine Total von €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480" y="1486080"/>
            <a:ext cx="8896320" cy="4533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15920" y="2425680"/>
            <a:ext cx="4394160" cy="287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51"/>
                </a:moveTo>
                <a:lnTo>
                  <a:pt x="21600" y="0"/>
                </a:lnTo>
                <a:lnTo>
                  <a:pt x="20976" y="0"/>
                </a:lnTo>
                <a:lnTo>
                  <a:pt x="20414" y="1720"/>
                </a:lnTo>
                <a:lnTo>
                  <a:pt x="16169" y="5926"/>
                </a:lnTo>
                <a:lnTo>
                  <a:pt x="15357" y="6499"/>
                </a:lnTo>
                <a:lnTo>
                  <a:pt x="11549" y="3058"/>
                </a:lnTo>
                <a:lnTo>
                  <a:pt x="9489" y="3823"/>
                </a:lnTo>
                <a:lnTo>
                  <a:pt x="8116" y="3345"/>
                </a:lnTo>
                <a:lnTo>
                  <a:pt x="5182" y="6499"/>
                </a:lnTo>
                <a:lnTo>
                  <a:pt x="2934" y="11469"/>
                </a:lnTo>
                <a:lnTo>
                  <a:pt x="2809" y="14145"/>
                </a:lnTo>
                <a:lnTo>
                  <a:pt x="1935" y="14719"/>
                </a:lnTo>
                <a:lnTo>
                  <a:pt x="187" y="17012"/>
                </a:lnTo>
                <a:lnTo>
                  <a:pt x="0" y="17681"/>
                </a:lnTo>
                <a:lnTo>
                  <a:pt x="2372" y="19593"/>
                </a:lnTo>
                <a:lnTo>
                  <a:pt x="5182" y="20071"/>
                </a:lnTo>
                <a:lnTo>
                  <a:pt x="7741" y="21600"/>
                </a:lnTo>
                <a:lnTo>
                  <a:pt x="9114" y="20740"/>
                </a:lnTo>
                <a:lnTo>
                  <a:pt x="9489" y="21600"/>
                </a:lnTo>
                <a:lnTo>
                  <a:pt x="11674" y="16726"/>
                </a:lnTo>
                <a:lnTo>
                  <a:pt x="11861" y="14719"/>
                </a:lnTo>
                <a:lnTo>
                  <a:pt x="12985" y="12329"/>
                </a:lnTo>
                <a:lnTo>
                  <a:pt x="13172" y="10418"/>
                </a:lnTo>
                <a:lnTo>
                  <a:pt x="14296" y="8793"/>
                </a:lnTo>
                <a:lnTo>
                  <a:pt x="14608" y="7264"/>
                </a:lnTo>
                <a:lnTo>
                  <a:pt x="19103" y="3536"/>
                </a:lnTo>
                <a:lnTo>
                  <a:pt x="21350" y="2007"/>
                </a:lnTo>
                <a:lnTo>
                  <a:pt x="21600" y="1051"/>
                </a:lnTo>
                <a:close/>
                <a:moveTo>
                  <a:pt x="21600" y="1051"/>
                </a:moveTo>
              </a:path>
            </a:pathLst>
          </a:custGeom>
          <a:noFill/>
          <a:ln w="63360">
            <a:solidFill>
              <a:srgbClr val="f3eb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E914-ED52-4879-9B48-D94F1F69E9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178920"/>
            <a:ext cx="8597880" cy="1360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 gehen nach Baden-Ba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533160"/>
            <a:ext cx="2336760" cy="633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 wir strollen durch die Lichtentaler Allee Park. Es ist fr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 wir besuchen die Burg Hohenbaden, ein alt Schloss für €5 j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ach wir besuchen die Museum Frieder Burda für €5 je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 wir sehen Mummelsee. Es kostet ni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letzt wir besuchn die Trinkhalle fur €5 je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71880" y="1604880"/>
            <a:ext cx="6959520" cy="525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EA6C-33CF-43A4-9D51-3B88BB553D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62240" y="7327800"/>
            <a:ext cx="5238720" cy="3495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0" y="6896160"/>
            <a:ext cx="5238720" cy="3495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9440" cy="5283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6000"/>
          </a:bodyPr>
          <a:p>
            <a:pPr marL="36720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 Baden-Baden, wir blieben in die Atlantic Parkhotel für €240 von Nacht. Wir haben sieben Tage ins das Hotel, so es kostet €1680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48040" y="1612800"/>
            <a:ext cx="5238720" cy="3495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27400" y="5181480"/>
            <a:ext cx="48643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s Hotel habt ein Park, einen Restaurant, und zwei Bette mit ein Sof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419F-CB09-4351-83FF-21BF905100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36960" y="1193760"/>
            <a:ext cx="5194440" cy="4470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92200" y="294840"/>
            <a:ext cx="37465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inmün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41200"/>
            <a:ext cx="374652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 wir können zu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rankreich und ba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m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n wir können zu der Schwarzwald fah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ach wir Wakeboarden in die Rhein mit Axel’s freund’s B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n wir besuchen die kirche “Sts Peter und Pau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letzt wir haben Abendessen mit Axel’s freund’s Famil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04B4-82B6-4FF8-B9E6-3A3FE1446F5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14880" y="10414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 bleiben in Axel’s freund’s Haus für drei Nacht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77960" cy="4152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Haus habt Solar Pan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hat ein Zimmer für alle 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 es ist fr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823E-9A1A-4C0C-AB1E-7D6E8A7C98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350C-5BB3-4BC6-81BD-F2AD8EC0AC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83160" y="2158920"/>
            <a:ext cx="5248080" cy="349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letzt wir besuchen Rheina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984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besuchen die European Parliament Building dass ist in der na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gehen zu die European Court of Human Rights Building dass ist sehr in der na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gehen zu die Tomi Ungere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Oper besucht wir für ein t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nt Thomas Kirche besuchen wir zulet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6AB1-54EE-46CB-81B0-533875CCDB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SD220</dc:creator>
  <dc:description/>
  <dc:language>en-US</dc:language>
  <cp:lastModifiedBy/>
  <cp:revision>0</cp:revision>
  <dc:subject/>
  <dc:title>Slide 1</dc:title>
</cp:coreProperties>
</file>